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B38CC-4CC6-450B-93F7-B4880247E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62C01-4599-4030-9716-34100A36A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B3C73-DC3C-4FA2-AF45-04E132E8C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8953C-5D93-4E23-987B-7F61BFD5D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E2FA5-6718-407F-AA4C-4D6711299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532B0-C465-45FB-9546-E4E17F210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D4183-5C0A-4A36-82CE-469AEFF7E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95BCB-66A2-4867-A339-059586802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346CA-54B4-421E-AEC9-0178F4383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E88BF-3901-4E36-BFB2-45432B1A9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0820A-B662-4B4A-B151-7E3C03367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73DE8-F78E-4F7C-93C6-D21CB958C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D448C-7B89-47A0-94D6-7397A2E404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RANG!</a:t>
            </a:r>
            <a:endParaRPr b="0" lang="en-US" sz="4400" spc="-1" strike="noStrike">
              <a:solidFill>
                <a:srgbClr val="000000"/>
              </a:solidFill>
              <a:latin typeface="Times New Roman"/>
            </a:endParaRPr>
          </a:p>
        </p:txBody>
      </p:sp>
      <p:sp>
        <p:nvSpPr>
          <p:cNvPr id="4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RRANG! Being a well known existing ‘Metal’ magazine, I decided that mine should follow a similar layout (house style). These would enable, readers to recognise the magazine, and relate this layout to the magazine, this way readers grow a custom to it.</a:t>
            </a:r>
            <a:endParaRPr b="0" lang="en-US" sz="1400" spc="-1" strike="noStrike">
              <a:solidFill>
                <a:srgbClr val="000000"/>
              </a:solidFill>
              <a:latin typeface="Times New Roman"/>
            </a:endParaRPr>
          </a:p>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magazine also use a Main Image which engages the audience. The Main Image shows the band members making eye-contact with the readers, these encourages them to feel apart of the magazine, as if friendly like. ‘Come read about us.’</a:t>
            </a:r>
            <a:endParaRPr b="0" lang="en-US" sz="1400" spc="-1" strike="noStrike">
              <a:solidFill>
                <a:srgbClr val="000000"/>
              </a:solidFill>
              <a:latin typeface="Times New Roman"/>
            </a:endParaRPr>
          </a:p>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many issues there is also the use of a set colour scheme which consists through out the front page, this helps to target the audience by familiarising it, which readers will instantly recognise. The colour scheme also reflects the sub culture, the use of greys, black, red, and white resemble what is happening on the page. The ‘typical’ scene of Metal etc.</a:t>
            </a:r>
            <a:endParaRPr b="0" lang="en-US" sz="1400" spc="-1" strike="noStrike">
              <a:solidFill>
                <a:srgbClr val="000000"/>
              </a:solidFill>
              <a:latin typeface="Times New Roman"/>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3" name="Kerrang" descr=""/>
          <p:cNvPicPr/>
          <p:nvPr/>
        </p:nvPicPr>
        <p:blipFill>
          <a:blip r:embed="rId2"/>
          <a:stretch/>
        </p:blipFill>
        <p:spPr>
          <a:xfrm>
            <a:off x="1046160" y="1981080"/>
            <a:ext cx="3089160" cy="4114800"/>
          </a:xfrm>
          <a:prstGeom prst="rect">
            <a:avLst/>
          </a:prstGeom>
          <a:ln w="0">
            <a:noFill/>
          </a:ln>
        </p:spPr>
      </p:pic>
      <p:grpSp>
        <p:nvGrpSpPr>
          <p:cNvPr id="44" name=""/>
          <p:cNvGrpSpPr/>
          <p:nvPr/>
        </p:nvGrpSpPr>
        <p:grpSpPr>
          <a:xfrm>
            <a:off x="5103720" y="1525680"/>
            <a:ext cx="4848120" cy="360"/>
            <a:chOff x="5103720" y="1525680"/>
            <a:chExt cx="4848120" cy="360"/>
          </a:xfrm>
        </p:grpSpPr>
        <p:sp>
          <p:nvSpPr>
            <p:cNvPr id="45" name=""/>
            <p:cNvSpPr/>
            <p:nvPr/>
          </p:nvSpPr>
          <p:spPr>
            <a:xfrm>
              <a:off x="5103720" y="1525680"/>
              <a:ext cx="4848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5103720" y="1525680"/>
              <a:ext cx="484812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47" name=""/>
          <p:cNvSpPr/>
          <p:nvPr/>
        </p:nvSpPr>
        <p:spPr>
          <a:xfrm>
            <a:off x="2955960" y="1525680"/>
            <a:ext cx="4848120" cy="360"/>
          </a:xfrm>
          <a:prstGeom prst="rect">
            <a:avLst/>
          </a:prstGeom>
          <a:solidFill>
            <a:srgbClr val="ffffff"/>
          </a:solidFill>
          <a:ln w="0">
            <a:noFill/>
          </a:ln>
        </p:spPr>
        <p:style>
          <a:lnRef idx="0"/>
          <a:fillRef idx="0"/>
          <a:effectRef idx="0"/>
          <a:fontRef idx="minor"/>
        </p:style>
        <p:txBody>
          <a:bodyPr lIns="90000" rIns="8856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Kerrang! Continued.</a:t>
            </a:r>
            <a:endParaRPr b="0" lang="en-US" sz="4400" spc="-1" strike="noStrike">
              <a:solidFill>
                <a:srgbClr val="000000"/>
              </a:solidFill>
              <a:latin typeface="Times New Roman"/>
            </a:endParaRPr>
          </a:p>
        </p:txBody>
      </p:sp>
      <p:sp>
        <p:nvSpPr>
          <p:cNvPr id="4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asthead and cover lines use fonts that make them bold and stick out, its gives it an attitude which relates the music featured.</a:t>
            </a:r>
            <a:endParaRPr b="0" lang="en-US" sz="1400" spc="-1" strike="noStrike">
              <a:solidFill>
                <a:srgbClr val="000000"/>
              </a:solidFill>
              <a:latin typeface="Times New Roman"/>
            </a:endParaRPr>
          </a:p>
        </p:txBody>
      </p:sp>
      <p:pic>
        <p:nvPicPr>
          <p:cNvPr id="50" name="Kerrang" descr=""/>
          <p:cNvPicPr/>
          <p:nvPr/>
        </p:nvPicPr>
        <p:blipFill>
          <a:blip r:embed="rId2"/>
          <a:stretch/>
        </p:blipFill>
        <p:spPr>
          <a:xfrm>
            <a:off x="1046160" y="1981080"/>
            <a:ext cx="308916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lHammer</a:t>
            </a:r>
            <a:endParaRPr b="0" lang="en-US" sz="4400" spc="-1" strike="noStrike">
              <a:solidFill>
                <a:srgbClr val="000000"/>
              </a:solidFill>
              <a:latin typeface="Times New Roman"/>
            </a:endParaRPr>
          </a:p>
        </p:txBody>
      </p:sp>
      <p:sp>
        <p:nvSpPr>
          <p:cNvPr id="5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gain with the issues of MetalHammer, they also use a fixed Title, again to familiarise itself with the audience.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ig Main Image, main attraction no distractions around i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as religious connotations this is shown through the medieval font styled headline (Calligraphy).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s also linked to the subculture of Main Image being related to Satanic valu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conography of the subculture – MetalHammer include all the typical features which seclude the image of ‘Metal’ e.g Blood, Colour, Font, Clothes.</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3" name="metalhammer" descr=""/>
          <p:cNvPicPr/>
          <p:nvPr/>
        </p:nvPicPr>
        <p:blipFill>
          <a:blip r:embed="rId2"/>
          <a:stretch/>
        </p:blipFill>
        <p:spPr>
          <a:xfrm>
            <a:off x="1130400" y="1981080"/>
            <a:ext cx="291924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ME</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 lot going on one page, no space left available, getting moneys worth</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se of free give aways and competitions.</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right colours, colours are bold and illuminated. This magazine is aimed at a typical student more into the Indie genre of music. So although this would help target a wide audience it would not attract those of the Metal sub culture. </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verline refers to Main Image which is of a well know celebrity which encourages readers to buy. The Main Cover Line is links to the Main Image, this allows readers to have an idea of what is happening within in the magazine. They have also used a quote, its also rather arrogant, this again is enticing the reader.</a:t>
            </a:r>
            <a:endParaRPr b="0" lang="en-US" sz="14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ME also use a lot of graphics, this targets Students and younger readers.</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N! Competitions encourage people to buy</a:t>
            </a:r>
            <a:endParaRPr b="0" lang="en-US" sz="1600" spc="-1" strike="noStrike">
              <a:solidFill>
                <a:srgbClr val="000000"/>
              </a:solidFill>
              <a:latin typeface="Times New Roman"/>
            </a:endParaRPr>
          </a:p>
        </p:txBody>
      </p:sp>
      <p:pic>
        <p:nvPicPr>
          <p:cNvPr id="56" name="NME" descr=""/>
          <p:cNvPicPr/>
          <p:nvPr/>
        </p:nvPicPr>
        <p:blipFill>
          <a:blip r:embed="rId2"/>
          <a:stretch/>
        </p:blipFill>
        <p:spPr>
          <a:xfrm>
            <a:off x="1047600" y="1981080"/>
            <a:ext cx="30862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08:52:42Z</dcterms:created>
  <dc:creator>ICT</dc:creator>
  <dc:description/>
  <dc:language>en-US</dc:language>
  <cp:lastModifiedBy>ICT</cp:lastModifiedBy>
  <dcterms:modified xsi:type="dcterms:W3CDTF">2009-05-08T11:22:13Z</dcterms:modified>
  <cp:revision>6</cp:revision>
  <dc:subject/>
  <dc:title>PowerPoint Presentation</dc:title>
</cp:coreProperties>
</file>